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3D5-D426-45F9-A42A-3D25DBC0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47EA-30E9-4513-8015-3FAE378D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8FD-C122-4388-842A-641D2B30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7E00-6833-491A-B537-232463E5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0CB-3AE8-419A-BBA3-74CD6977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0C3-E04E-4EF9-B3AF-33A9C892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5FF-9684-474B-919D-94F83541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A753-8DB9-4CE3-BB58-DA30F2F3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3A1-1957-4423-A266-416B1B95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70E6-9551-4CD9-AF0F-62F5713D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E784-D74B-4F31-B89A-EB84263D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71C-43B7-4C43-AC4D-3C32A32E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D57C-A5BC-42D6-A73E-6203EF090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434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4648320"/>
            <a:ext cx="3352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UIC - Campus de l’E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UC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l·lecció Tèc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0"/>
            <a:ext cx="33526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1143000"/>
            <a:ext cx="27432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VARIEDADES Y MEJORA DEL ARRO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ES_tradnl" sz="2200" spc="-1" strike="noStrike">
                <a:solidFill>
                  <a:srgbClr val="000000"/>
                </a:solidFill>
                <a:latin typeface="Times New Roman"/>
              </a:rPr>
              <a:t>Oryza sativa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, 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5181480"/>
            <a:ext cx="32004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Universitat Internacional de Cataluny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scola Universitària de Ciències Experimentals i Tecnolog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3367080"/>
            <a:ext cx="28191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ff"/>
                </a:solidFill>
                <a:latin typeface="Times New Roman"/>
              </a:rPr>
              <a:t>Josep Maria Franquet Bern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ff"/>
                </a:solidFill>
                <a:latin typeface="Times New Roman"/>
              </a:rPr>
              <a:t>Cinta Borràs Pàm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61722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U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6192200">
            <a:off x="1946160" y="3539880"/>
            <a:ext cx="433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Josep Maria Franquet Bernis        Variedades y mejora del  Cinta Borràs Pàmies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roz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219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126828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119700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6000" y="4221000"/>
            <a:ext cx="5857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11:09:29Z</dcterms:created>
  <dc:creator>Windows</dc:creator>
  <dc:description/>
  <dc:language>en-US</dc:language>
  <cp:lastModifiedBy>*</cp:lastModifiedBy>
  <dcterms:modified xsi:type="dcterms:W3CDTF">2004-04-02T09:43:01Z</dcterms:modified>
  <cp:revision>6</cp:revision>
  <dc:subject/>
  <dc:title>Presentación de PowerPoint</dc:title>
</cp:coreProperties>
</file>