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204-E408-4850-A787-45B51A51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C0D-4AA5-4ACA-B78A-AB347053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73D-9C7E-470F-A242-8E9BEE4F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931-F0C9-46AB-BDFE-0CC5152E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7A4-AB5B-4A26-87D4-26B2E1DF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157-74D9-4B11-B8A7-9690105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62B-BB6D-4A46-8B93-223E857F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771-5B61-460F-9983-8E80283E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D71-FCD6-497B-A61F-3741C935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93C-8B01-46B5-BDBD-2598783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237-232A-46F8-8F5E-7DEFD95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064-C4CF-461F-B4B5-D4C79955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EF30-2805-4D2C-9353-8FD752C12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3505320" cy="1886040"/>
          </a:xfrm>
          <a:prstGeom prst="rect">
            <a:avLst/>
          </a:prstGeom>
          <a:ln w="0">
            <a:noFill/>
          </a:ln>
        </p:spPr>
      </p:pic>
      <p:pic>
        <p:nvPicPr>
          <p:cNvPr id="42" name="NYC 056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40048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86040" y="3409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28760" y="36669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6477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 Extra Bold"/>
              </a:rPr>
              <a:t>El potencial de sostenibilidad de los asentamient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9608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osep Antequ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7696080"/>
            <a:ext cx="1905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 la ayuda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ixa de Sabad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ptiemb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A0822" descr=""/>
          <p:cNvPicPr/>
          <p:nvPr/>
        </p:nvPicPr>
        <p:blipFill>
          <a:blip r:embed="rId4"/>
          <a:stretch/>
        </p:blipFill>
        <p:spPr>
          <a:xfrm>
            <a:off x="3124080" y="2438280"/>
            <a:ext cx="3086280" cy="232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219320" y="4267080"/>
            <a:ext cx="441936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62120" y="2514600"/>
            <a:ext cx="26589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4:50:00Z</dcterms:created>
  <dc:creator>Catunesco</dc:creator>
  <dc:description/>
  <dc:language>en-US</dc:language>
  <cp:lastModifiedBy>*</cp:lastModifiedBy>
  <dcterms:modified xsi:type="dcterms:W3CDTF">2005-11-14T14:48:45Z</dcterms:modified>
  <cp:revision>3</cp:revision>
  <dc:subject/>
  <dc:title>Presentación de PowerPoint</dc:title>
</cp:coreProperties>
</file>